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55999-DA9A-4EA0-8440-1CBCF36B1BA3}"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FAAEA-BF0F-4CEF-9DE6-544AE0DFAF2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01076-9FDD-49CB-980E-6CC3AED3C88E}"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45E61-058F-4D52-A516-F9894EEBB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EDAA8-2C33-440D-A035-5F804ED6D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2011BE-32A9-437A-ABDD-A42EE750DB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9D9DED-042C-4C50-8C02-9611B99BCE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3EFE45-17C8-4BB7-A08D-AF8E9D9ED3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B88457-30F0-4CAF-A0C6-086D066872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3BA233-F527-4BA9-9D4E-C62FC2125D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BAE447-2900-4D8B-AE1D-CB2F13B5A9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E1C962-65B4-46F5-8A93-B24394F5D7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9B210C-EF4F-4C0F-9848-AB71F439AC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4E2FCD-E048-42D7-94E2-06469A3D8C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7FD8D4-2BB5-427A-837D-8A26DD85BE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E2503-2EE8-4C90-AB5E-70A349AE8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AE7616-890C-4E96-9E47-BB87A7FF09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8AA19D-46BC-440D-B688-5582D5810D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D36835-E3D9-4E0A-8766-CF94D1FA7E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63375E-9505-475B-94BD-3A0AA57095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5DB913-C10D-47D5-933F-14EDFAF0B4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815C50-404B-41E5-B44E-6EEE61D921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BBFEDE-EC19-4FB0-81F2-577D75EC98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CA26AA-6657-446D-A1D7-733408A524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FB2FEE-A2F8-42B7-8F50-A4B0FAB205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50BC4D-485E-499A-9D6C-D41D51E67B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ABF0C-5381-4729-9404-C4209923A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3DE585-33D6-473E-8EB4-A2E21C241A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DE3FD8-678A-49C0-BE01-16FD4E10431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7E8E46-7006-4220-BD04-FE439C840E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299B54-B19B-41ED-AAFA-9EAD23B256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B07820-C5B9-488E-A709-7EA1AAE726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07BB2B-3363-4CB5-B68B-FB570A36EF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C1FC10-CA87-4DC7-817D-6A79AE7414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F8AADC-017A-466D-93AB-970C117DA9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960E61-8136-43EB-97D2-03A28500CB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67FEB8-87D4-441E-84D6-A86539A38E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3E09E166-AF0E-4DD2-AF20-8F0D7E3FE2D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4B0A4B-9452-4C59-87F4-F882B942B6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E21BD52-C507-45FB-956D-1B29CB7347B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7BA7DFD-0F18-48B8-A94E-5AE162495A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EB49359-18A7-4ED1-B79A-0751B1AC8F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682542-880D-4F86-BB2A-3DBF5DD628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212F31-7814-4ABF-BBD0-142F691EC9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374319-287B-4F73-90D0-D5C02BFB64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41CA2D-F8CC-4D65-B3BC-9252865B92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4F47CA-204A-4983-B706-227EE6BB4A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BA3EDA-5E30-4C74-A4D6-CFB5CA4D47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68A8CA14-0CC2-4F3C-9CF5-C406ED62ED6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627A0F-5A9A-4669-83A9-342EF20F5F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AEBA9A-D8AC-408E-BDF5-EE53DB108E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733ECD-F4D4-44E2-8929-4638BB4319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8C78D7-FFE6-409E-BC95-75792AE1B9C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97F8F9-BFF0-47B0-8B14-3B36F8977AA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4355F6A-B360-4721-9004-85136E27AB2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64FBDD-43E5-4252-B0A2-F9EA6246FF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B01C06-A56B-43EE-8055-CD5A22BB48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B0C43B-C72D-47C7-96B5-14FE3170DD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C6DF873-5B2E-4D49-9187-07CC447C48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2A20FF5-CC05-4BEC-9A52-3B361549283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66AC552-EA10-4DF5-A0C6-97C2D70D3AB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C7B1E5-7192-47EA-9930-54371957DA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F67FD8-801C-476E-A8D6-CE29DF5D26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03C5F0-96A2-46AA-B3B8-1E3FD7A615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E1BE19-B9B9-4184-8385-8F70980966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D490817-F22C-427C-87E4-F7AE7C20D2E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D4C826F-9D98-453C-87F8-5C23AC32458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1AE39B8-A81B-4A53-A932-778053FA64D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B61D50-B57D-4A2F-B9E6-F9E15A8934E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77526A-F446-4035-B319-FAF499AB1C9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7A49133F-F15A-4183-8E3C-6812554DA61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60F2CF-9E9B-45AD-9EFA-9703C974BE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7763A5D-B48E-4CB7-82CD-B71360B2233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629DF6A-60B0-4F72-A10B-84BC5FAAED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2DCFB4-FF29-422B-B8A7-EBDFEB5AB0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6893A2-0A7F-49DE-9D6E-557DA3CB19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2B7391-4300-46EF-8483-AFFD799169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EC50CF9-4CF6-4120-863C-D3FC0BF3F03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9B521F1-277A-4254-82F0-B21DF452595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E3447C8-8012-4B7F-8339-63A7128349F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F1C7DC9-ED83-4599-86D1-2C2425DB555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AF8633F-727A-431D-BE9E-D29310A3D0A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ACB2D99-6CEE-42A7-A68C-54168F827E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E50AB02-4E25-4BD8-B1B3-79A67C9D0D7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79AC253-FB81-4016-8901-9C20EFC53D3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95E1E4-819A-4452-91F4-8736D6CE41D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2730166-8133-44B4-B766-79D4C2FE5E8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988991-8130-4F4E-A4CE-4C43E7F81C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83DD15-5E36-42EA-BEB7-4BA7184351A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AEEA3D-4909-4034-9EFB-FD5B87D203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513FC94-D6A9-4222-A300-F13D32367B6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1685BA5-FDCE-449E-BCE2-0B475586927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75730A37-FD2C-4C06-B0F7-C01D41A53B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50D74AD-F722-4197-BD51-C403824053F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E982C57-39C1-4863-BD6A-1DFC5E7DAE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F59DD45-6641-4A78-8C18-240C12FD5C5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CA631FD-0BDA-4991-869F-2034218493E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AAE37C3-32C4-4FEE-841A-8C60451F55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90E95CB-C928-4E22-A4EC-7EE2B21B6A5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195DDF4-F3A3-44C6-8AAB-4C44A89C902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4BAA7A6-848F-40D4-8402-BD5976AB0C6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91A9C9-2933-406C-8482-9F43E3EC5F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1EDDAAB-0AE6-4CBA-B67D-C7D8E65C52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D01B469-FBC4-4EC5-B82A-7107C5555E3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634CB49-A6AF-4C13-9052-C30AAFF92E8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2ED7C7B-D702-468B-B128-CFD322C10C7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9872CB0-4319-452B-B97D-D7D3E053616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8B89100-0E6C-42C4-994B-111DB87AD70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0CA7E2C-67C2-4D48-8617-73126E9D6B9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3E37469-8727-4AAD-BCD8-DB39D9C21AF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B9109CC-0E78-4241-B109-450F828FB84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B9D6B27-702B-4957-B2C3-F931E889C29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49A6901-BF7B-4457-9048-CAE55826680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C1A7733-445A-43EC-85B0-E4ED41CA6F6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17866-E592-4181-BE8C-9C84C542A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E0071D2-9B33-4C7F-B0F9-754D1A8328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D5B5E1E-B387-4BFD-89B4-7C1AC298A76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4E915F-FE25-463D-8823-0CE8E8D97BB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8CA0115-634E-4E78-931D-59CB726360A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D4CEE30-62DE-42ED-8837-9CD9FAD2D7B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505CF35-1160-4702-9AED-1299C96A685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C6C1D30-7576-44B9-BBCF-7827DD5398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46D2CA42-4F07-42FD-9603-7C35424DCCC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71A6EAD9-8FB1-4334-B3F8-172E458ED9E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0C715542-42E2-42B3-A42B-8A4EC08B507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3CDEA3-1520-43CE-B4D1-8DD1580AEF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B4B998-4EDA-466B-BCBE-2AE999DC8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EF26D5-6163-4923-94D1-D18613AD5E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DB8559-0A9F-4CFB-A500-A8F3403157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3E671D-ADC5-44E2-9E22-6A0310BDC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A40BE-280C-42BA-AEF0-A5543E531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E39F48-E154-4DEC-9B35-E771866934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51E81-58D7-4AA9-BFC4-38DE26F71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F99A8-8E00-475C-80DD-1D8C61F3A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EE94D-F4EE-4486-93D7-F5D5A7989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CEA00-EC94-4948-992D-84DDCEE50D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2ABBDF-B3CB-4157-BE59-572081883B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129108-E860-481B-BA0E-17921FA739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06D4D6-9BA2-42A5-812D-D0CC7F6B1D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127F83-B792-4B0D-85FD-B3038651DA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BD9748-66C4-42C2-B501-0DBD528FBB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33074-17DA-4C6F-A06C-0A0C50121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1BBE7B-8728-4989-AD67-A8B2C46B32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60CDE-3CAB-496F-9CFD-E54D680B90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4A02EC-80E6-4925-816B-116519476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BD48FF-3289-4CCA-82AB-99189A541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A749B-8404-4FF5-BA12-00D29A90F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CC2BC-4DA5-49F4-86A6-7F2A71A9F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7A9A65-BD9D-4A12-81B9-6E2FCD1C20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E775B5-CFA0-49EF-936B-FA97DFA2D0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9FA2D7-FFB2-4449-BFE7-B44FC5907C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D00EEB-93E9-40B7-87AE-34177F2F0A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3F47D-C460-4C14-836E-258F241D9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AA7E7-72C7-4E09-A30E-550CE3B6C3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7D704-16BA-49D2-A15D-52DF24A19E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13A14E-A0D6-4319-B1D0-44549E957E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57C979-20E1-4A33-8532-CA958838E7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58C4D5-E126-42CC-81D4-170F8CABB9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D56B2D-9351-4C9D-9F69-9D0CB814D6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BBA513-BC92-439F-BC63-D136EED18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8C01B-BF5A-49CD-B7F7-7CD8742BC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EBF821-A6D0-4F69-AC7A-E6E64B11BF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F5EC72-7369-49A7-B635-0201C6255E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8B0DC-FC3E-4F37-AD02-81EA4A072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0985E2-8895-4F21-B217-51F7DD5C54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B34B13-2703-428D-A1E5-53CBF85102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B04274-0A02-472D-87F1-96C1B041F0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79E352-69E7-4852-90E5-944D9D0EBF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95B6AC-0D8A-4018-AA65-316547B752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EF28AD-548F-4622-BF4B-CBDC079864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1F02B8-29B7-48BD-B3D9-5EBD35A123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E6773E-8BE2-4E0A-B9B4-D201F6BDB2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BCB832-57DB-4B27-857A-D4EC7D0E9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62F12-CE1F-4312-B670-ADBDEE07C3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F4713-F617-4371-83B0-CF1A61C45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1D092E-DF74-48E9-A959-828717A7F0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63F909-37E8-459A-97C0-AD52D3FF5A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E7CC61-45E5-4D87-B9E3-5A7BFAE8F4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6F72D7-1991-42AA-AC58-6AC9E4FED7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8DCE11-FC2D-40A8-8F33-D8D6B853C2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CA1A35-4500-4D4C-A474-9BDFC99CC3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C8A11B-E93E-440B-837E-AA4F16D043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692E2F-827B-436C-8763-B0EEEA535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1817C1-9A3B-4C99-940C-61CF878C6D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490D05-623A-4DB0-879F-A915BF315E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263DC-B2A9-4269-B6C5-4024C4BFB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9C574-B4C7-4F9C-AF47-E89E058A27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E3457A-0F31-4B22-8B5C-36AC30016B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77B9A3-7D5A-4DC9-BB18-D4DC9F6665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7921A7-2AA6-4699-8D58-512D57013B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2165F5-590A-4D90-B8D3-C9DF6260DA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5EFD67-4816-4CC2-9273-F452E183F5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960C92-B80C-4C2F-B27C-BEE1E9F05F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F49E85-B02D-48F5-8279-8EDBE2B4C8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5BAAE7-E6E3-4DD7-91F8-1464737A77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27EC5E-8CF8-4797-90BD-7F50508659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C1D47-F221-4AA5-BA98-07E3A3654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CA32CB-DA6E-40EF-859F-BF3C5F22B8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BEC6FC-5D5F-4346-82EE-8D76C18EF0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31668B-DB7E-42E9-A4EF-A21BD144E0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52AEBC-B226-4A86-8558-EEB3AAEFDB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ED3CA0-0CF8-4459-AFD6-7600C0EC9D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0EC602-A4BF-4543-82C0-FAD9F3857D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C4515C-EF6F-41E9-A6C2-9C73954971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2BDFE9-26E4-4685-AF32-C83B36CF02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D21B2B-FAB6-4126-9269-620E7268D8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2D8FCF-F320-44FA-88B3-5614BA0DD3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F45F95-0D6F-420A-9A0B-C00B2DF7F95F}"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E7732-74D7-4176-8DD8-076B07AF333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49CA7-9A5A-4E14-8E87-5EFFE949D7DD}"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64048-6AC0-476E-8494-62DAD4A251F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8C8BE-D33B-4991-944E-A0B2C3B62A1E}"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C1803-EA5C-4133-8BA2-B4AEDB09EEB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D1223-1A84-452F-8FB7-FDE42E12BF10}"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2A800-18A4-4216-B295-F65C250620B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85875-7D23-4E1C-9FFD-3D9A828160E4}"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7081F9-46FF-4E1C-9A71-8FA3AD12D1E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734C2-550A-4595-802C-F5A81A683C3D}"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B7BF8-7860-447C-BC72-DACC157C4D3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4843A-2F88-463E-99D7-AEE5539B7884}"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D79C2-460E-4C1F-B371-4F0E6B05CC7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8CA5D-A5D2-4CDE-8E35-4A6DB424BCF6}"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A2E24-8A45-4CF5-AEFC-F32116CCC62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41093-5580-428A-BC9E-004E319B97CC}"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C11E8-10A0-4AD3-B726-AED1D3D7B84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C6B03-4EC5-4103-9D6C-5FF810742A5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75D99-5CE2-450B-B188-1E9155D38E1F}"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D2F75-15D8-4F62-867E-818BF78F896C}"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4E46B-1D63-4247-B259-3EC86CA4F20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ADB9E-412C-4CD7-9FB1-BCB03FA6AD00}"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792B5-FE16-4C6A-ADAC-18B7B6A5EE9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560B7-326A-441B-8E52-C66BE7511C0F}"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412FC-2AC9-471D-8DD9-F1E99E52BE8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E6354-7F7A-4674-9D31-F3DE96E96521}"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8BE5BF-6F4F-4367-B14E-376B2C1B542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F2F07-5DE9-40D3-9663-A2FDACFE9BC5}"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20736-90E5-4410-9246-1ED3CB419E5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BB8E6-963D-461A-BBC8-9968EDC50450}"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3C015-C3C9-4E1F-AB9E-D080A0B6528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06FFB-74F3-4DD0-9DBC-F2C6D52FCCD8}"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33D5C-522B-44EF-A0C3-FC928058B95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Picture 3" descr=""/>
          <p:cNvPicPr/>
          <p:nvPr/>
        </p:nvPicPr>
        <p:blipFill>
          <a:blip r:embed="rId1"/>
          <a:stretch/>
        </p:blipFill>
        <p:spPr>
          <a:xfrm>
            <a:off x="336600" y="423720"/>
            <a:ext cx="8128080" cy="6096240"/>
          </a:xfrm>
          <a:prstGeom prst="rect">
            <a:avLst/>
          </a:prstGeom>
          <a:ln w="0">
            <a:noFill/>
          </a:ln>
        </p:spPr>
      </p:pic>
      <p:sp>
        <p:nvSpPr>
          <p:cNvPr id="742" name="PlaceHolder 1"/>
          <p:cNvSpPr>
            <a:spLocks noGrp="1"/>
          </p:cNvSpPr>
          <p:nvPr>
            <p:ph type="title"/>
          </p:nvPr>
        </p:nvSpPr>
        <p:spPr>
          <a:xfrm>
            <a:off x="-1294200" y="3943080"/>
            <a:ext cx="67626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rebuchet MS"/>
              </a:rPr>
              <a:t>Crime Investigation</a:t>
            </a:r>
            <a:endParaRPr b="0" lang="en-US" sz="4400" spc="-1" strike="noStrike">
              <a:solidFill>
                <a:srgbClr val="ffffff"/>
              </a:solidFill>
              <a:latin typeface="Trebuchet MS"/>
            </a:endParaRPr>
          </a:p>
        </p:txBody>
      </p:sp>
      <p:sp>
        <p:nvSpPr>
          <p:cNvPr id="743" name="PlaceHolder 2"/>
          <p:cNvSpPr>
            <a:spLocks noGrp="1"/>
          </p:cNvSpPr>
          <p:nvPr>
            <p:ph type="subTitle"/>
          </p:nvPr>
        </p:nvSpPr>
        <p:spPr>
          <a:xfrm>
            <a:off x="1593720" y="5873400"/>
            <a:ext cx="6400800" cy="64620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Joseph Stanford III</a:t>
            </a:r>
            <a:endParaRPr b="0" lang="en-US" sz="1700" spc="-1" strike="noStrike">
              <a:solidFill>
                <a:srgbClr val="ffffff"/>
              </a:solidFill>
              <a:latin typeface="Trebuchet MS"/>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October 11, 2011</a:t>
            </a:r>
            <a:endParaRPr b="0" lang="en-US" sz="17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txBox="1"/>
          <p:nvPr/>
        </p:nvSpPr>
        <p:spPr>
          <a:xfrm>
            <a:off x="250920" y="1828800"/>
            <a:ext cx="86090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rst responders and law enforcement agencies around the world are actively utilizing the ShotSpotter Gunshot Location System to give them an edge on gun crime by having otherwise unavailable firearms, violent crime alerts, and activity data. Gun seizures in the target area rose by 60%, and gun crimes dropped by 49%.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 Parts 2</a:t>
            </a:r>
            <a:endParaRPr b="0" lang="en-US" sz="3800" spc="-1" strike="noStrike">
              <a:solidFill>
                <a:srgbClr val="ffffff"/>
              </a:solidFill>
              <a:latin typeface="Trebuchet MS"/>
            </a:endParaRPr>
          </a:p>
        </p:txBody>
      </p:sp>
      <p:sp>
        <p:nvSpPr>
          <p:cNvPr id="757" name=""/>
          <p:cNvSpPr txBox="1"/>
          <p:nvPr/>
        </p:nvSpPr>
        <p:spPr>
          <a:xfrm>
            <a:off x="779040" y="1623600"/>
            <a:ext cx="7583400" cy="4667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 What group of people are you helping?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Ceasefire stops murder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 How many clients will be included?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 </a:t>
            </a:r>
            <a:r>
              <a:rPr b="0" lang="en-US" sz="1800" spc="-1" strike="noStrike" u="sng">
                <a:solidFill>
                  <a:srgbClr val="ffffff"/>
                </a:solidFill>
                <a:uFillTx/>
                <a:latin typeface="Trebuchet MS"/>
              </a:rPr>
              <a:t>About 20 clients to work together how to stop murder.</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 What is this program trying to accomplish? Where will your program focus upon?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ey like to tell police officers about crime and make technology system that can stop murder easily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4) How many people will I need to employ and in what positions?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to employ 100 people in police officers</a:t>
            </a:r>
            <a:r>
              <a:rPr b="0" lang="en-US" sz="1800" spc="-1" strike="noStrike">
                <a:solidFill>
                  <a:srgbClr val="ffffff"/>
                </a:solidFill>
                <a:latin typeface="Trebuchet MS"/>
              </a:rPr>
              <a:t> </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txBox="1"/>
          <p:nvPr/>
        </p:nvSpPr>
        <p:spPr>
          <a:xfrm>
            <a:off x="779040" y="473040"/>
            <a:ext cx="7583400" cy="59515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 What other resources do I need? (Buildings, land, supplies, security, etc.)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other resources are Law enforcement, Police Department, and Private Investigation.</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 What are my costs and for how long? (Salaries, rents, services, supplies etc.)</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250,000 is important for our crime fighting efforts for annuall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7) Where does this funding come fro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is funding come from ShotSpotter System </a:t>
            </a:r>
            <a:r>
              <a:rPr b="0" lang="en-US" sz="2000" spc="-1" strike="noStrike" u="sng">
                <a:solidFill>
                  <a:srgbClr val="ffffff"/>
                </a:solidFill>
                <a:uFillTx/>
                <a:latin typeface="Times New Roman"/>
              </a:rPr>
              <a:t>&amp;</a:t>
            </a:r>
            <a:r>
              <a:rPr b="0" lang="en-US" sz="1800" spc="-1" strike="noStrike" u="sng">
                <a:solidFill>
                  <a:srgbClr val="ffffff"/>
                </a:solidFill>
                <a:uFillTx/>
                <a:latin typeface="Trebuchet MS"/>
              </a:rPr>
              <a:t> Federal government.</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8) What am I calling this progra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am calling this program Crime Investigation.</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unter-arguments</a:t>
            </a:r>
            <a:r>
              <a:rPr b="0" lang="en-US" sz="3800" spc="-1" strike="noStrike">
                <a:solidFill>
                  <a:srgbClr val="ffffff"/>
                </a:solidFill>
                <a:latin typeface="Trebuchet MS"/>
              </a:rPr>
              <a:t>:</a:t>
            </a:r>
            <a:endParaRPr b="0" lang="en-US" sz="3800" spc="-1" strike="noStrike">
              <a:solidFill>
                <a:srgbClr val="ffffff"/>
              </a:solidFill>
              <a:latin typeface="Trebuchet MS"/>
            </a:endParaRPr>
          </a:p>
        </p:txBody>
      </p:sp>
      <p:sp>
        <p:nvSpPr>
          <p:cNvPr id="760" name=""/>
          <p:cNvSpPr txBox="1"/>
          <p:nvPr/>
        </p:nvSpPr>
        <p:spPr>
          <a:xfrm>
            <a:off x="339480" y="1828800"/>
            <a:ext cx="84452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f people say that Ceasefire and other programs that stop crime, will not succeed or can’t stop all murder. Also people don’t think Ceasefire or other programs can make better technology to stop murder easil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would say that Ceasefire is working on stop crime and they will make technology that can hear sounds of gunfire and set hotspots that can stop murder. They are trying to stop all murder as their best as they can do it.</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losing</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62" name=""/>
          <p:cNvSpPr txBox="1"/>
          <p:nvPr/>
        </p:nvSpPr>
        <p:spPr>
          <a:xfrm>
            <a:off x="264960" y="1828440"/>
            <a:ext cx="8097840" cy="46990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hope you believe these programs and my responses are true, because police officers want our communities to stay safe and no crime.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their goal. If you do believe or not, police officers and Ceasefire are working on stopping crime and never give up their work.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y want no violation or crime in our community, only then they will stop working on crime. Thank you for listening to my presentation and hope you liked it and believe i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nclusion</a:t>
            </a:r>
            <a:r>
              <a:rPr b="0" lang="en-US" sz="3800" spc="-1" strike="noStrike">
                <a:solidFill>
                  <a:srgbClr val="ffffff"/>
                </a:solidFill>
                <a:latin typeface="Trebuchet MS"/>
              </a:rPr>
              <a:t>: (Easybib)</a:t>
            </a:r>
            <a:endParaRPr b="0" lang="en-US" sz="3800" spc="-1" strike="noStrike">
              <a:solidFill>
                <a:srgbClr val="ffffff"/>
              </a:solidFill>
              <a:latin typeface="Trebuchet MS"/>
            </a:endParaRPr>
          </a:p>
        </p:txBody>
      </p:sp>
      <p:sp>
        <p:nvSpPr>
          <p:cNvPr id="764" name=""/>
          <p:cNvSpPr txBox="1"/>
          <p:nvPr/>
        </p:nvSpPr>
        <p:spPr>
          <a:xfrm>
            <a:off x="779040" y="1623600"/>
            <a:ext cx="7583400" cy="4829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u="sng">
                <a:solidFill>
                  <a:srgbClr val="ffffff"/>
                </a:solidFill>
                <a:uFillTx/>
                <a:latin typeface="Trebuchet MS"/>
              </a:rPr>
              <a:t>Works Cited:</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ray, Madison. "How to Turn Around a Gang Member - TIME." </a:t>
            </a:r>
            <a:r>
              <a:rPr b="0" i="1" lang="en-US" sz="1600" spc="-1" strike="noStrike">
                <a:solidFill>
                  <a:srgbClr val="ffffff"/>
                </a:solidFill>
                <a:latin typeface="Trebuchet MS"/>
              </a:rPr>
              <a:t>Breaking News, Analysis, Politics, Blogs, News Photos, Video, Tech Reviews - TIME.com</a:t>
            </a:r>
            <a:r>
              <a:rPr b="0" lang="en-US" sz="1600" spc="-1" strike="noStrike">
                <a:solidFill>
                  <a:srgbClr val="ffffff"/>
                </a:solidFill>
                <a:latin typeface="Trebuchet MS"/>
              </a:rPr>
              <a:t>. 2 Sept. 2009. Web. 13 Sept. 2011. &lt;http://www.time.com/time/nation/article/0,8599,1919253,00.html&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Reynolds, Julia. "Trying to Get a Grip on Gang Violence, Salinas Embarks on Innovative Plan." </a:t>
            </a:r>
            <a:r>
              <a:rPr b="0" i="1" lang="en-US" sz="1600" spc="-1" strike="noStrike">
                <a:solidFill>
                  <a:srgbClr val="ffffff"/>
                </a:solidFill>
                <a:latin typeface="Trebuchet MS"/>
              </a:rPr>
              <a:t>Mercury News</a:t>
            </a:r>
            <a:r>
              <a:rPr b="0" lang="en-US" sz="1600" spc="-1" strike="noStrike">
                <a:solidFill>
                  <a:srgbClr val="ffffff"/>
                </a:solidFill>
                <a:latin typeface="Trebuchet MS"/>
              </a:rPr>
              <a:t>. Copyright @ 2011- San Jose Mercury News, 13 Sept. 2009. Web. 20 Sept. 2011. &lt;http://www.mercurnews.com/centralcoast/ci_13327638&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hapiro, Paul. "Legis. Cooper Calls For Shotspots For Hotspots - Huntington, NY Patch." </a:t>
            </a:r>
            <a:r>
              <a:rPr b="0" i="1" lang="en-US" sz="1600" spc="-1" strike="noStrike">
                <a:solidFill>
                  <a:srgbClr val="ffffff"/>
                </a:solidFill>
                <a:latin typeface="Trebuchet MS"/>
              </a:rPr>
              <a:t>Huntington, NY Patch - News, Sports, Events, Businesses &amp; Deals</a:t>
            </a:r>
            <a:r>
              <a:rPr b="0" lang="en-US" sz="1600" spc="-1" strike="noStrike">
                <a:solidFill>
                  <a:srgbClr val="ffffff"/>
                </a:solidFill>
                <a:latin typeface="Trebuchet MS"/>
              </a:rPr>
              <a:t>. 30 Sept. 2010. Web. 12 Sept. 2011. &lt;http://huntington.patch.com/articles/legis-cooper-calls-for-shotspots-for-hotspots&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liter, Lauren. "Oakland’s Controversial Crime Prevention Measure Receives National Recognition." </a:t>
            </a:r>
            <a:r>
              <a:rPr b="0" i="1" lang="en-US" sz="1600" spc="-1" strike="noStrike">
                <a:solidFill>
                  <a:srgbClr val="ffffff"/>
                </a:solidFill>
                <a:latin typeface="Trebuchet MS"/>
              </a:rPr>
              <a:t>The Campanil | Keeping in Time with the Mills Community since 1917</a:t>
            </a:r>
            <a:r>
              <a:rPr b="0" lang="en-US" sz="1600" spc="-1" strike="noStrike">
                <a:solidFill>
                  <a:srgbClr val="ffffff"/>
                </a:solidFill>
                <a:latin typeface="Trebuchet MS"/>
              </a:rPr>
              <a:t>. 30 Sept. 2010. Web. 20 Sept. 2011. &lt;http://www.thecampanil.com/oaklands-crime-prevention-measure-receives-national-recognition&gt;. </a:t>
            </a:r>
            <a:endParaRPr b="0" lang="en-US" sz="1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923920" y="0"/>
            <a:ext cx="6219720" cy="3751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Introduction</a:t>
            </a:r>
            <a:endParaRPr b="0"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txBox="1"/>
          <p:nvPr/>
        </p:nvSpPr>
        <p:spPr>
          <a:xfrm>
            <a:off x="383760" y="457200"/>
            <a:ext cx="7978680" cy="5981760"/>
          </a:xfrm>
          <a:prstGeom prst="rect">
            <a:avLst/>
          </a:prstGeom>
          <a:noFill/>
          <a:ln w="0">
            <a:noFill/>
          </a:ln>
        </p:spPr>
        <p:txBody>
          <a:bodyPr anchor="t">
            <a:normAutofit/>
          </a:bodyPr>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 Do you feel Cincinnati does well fighting crime?  In Oakland, a program exists in which homicides dropped about 20% from 2007-2008 and gang affiliation reduced about 38% in first six months.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is a program we might be able to bring to Cincinnati.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 Do you think Cincinnati will lay off then rehire police officers like Oakland did?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akland wanted police officers who had been laid off to come back to work again. Cincinnati doesn’t want to lay off police officers, because they need protection from crim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Research</a:t>
            </a:r>
            <a:endParaRPr b="0" lang="en-US" sz="3800" spc="-1" strike="noStrike">
              <a:solidFill>
                <a:srgbClr val="ffffff"/>
              </a:solidFill>
              <a:latin typeface="Trebuchet MS"/>
            </a:endParaRPr>
          </a:p>
        </p:txBody>
      </p:sp>
      <p:sp>
        <p:nvSpPr>
          <p:cNvPr id="747" name=""/>
          <p:cNvSpPr txBox="1"/>
          <p:nvPr/>
        </p:nvSpPr>
        <p:spPr>
          <a:xfrm>
            <a:off x="280800" y="1639440"/>
            <a:ext cx="8592840" cy="49467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Agencies create more tactical response and crime prevention strategies to make communities saf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Law enforcement agencies use ShotSpotter Gunshot Location System to inform them of gun crime by firearms and violent crime alert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They have seen a dramatic difference in our areas by ShotSpotter’s system.</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4.Police Department studied the feasibility of implementing ShotSpotter to target gun violenc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5.They don’t use word “gang” as issue of behavior.</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txBox="1"/>
          <p:nvPr/>
        </p:nvSpPr>
        <p:spPr>
          <a:xfrm>
            <a:off x="779040" y="-360"/>
            <a:ext cx="7583400" cy="655164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6.Police like to tell that trusted people in the  community who know this gang to convince felons to put down guns.</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7. Governor slashed spending funds - loss of 159 staff job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8. Police Superintendant said that they don’t want to toss a gang in jail because they have gang groups from different place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9. The gang ain’t making no money just only in the game is violence it means they think kills are the toy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0. Oakland’s city allowed police to force to decline as retirement to save money without police academies.</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txBox="1"/>
          <p:nvPr/>
        </p:nvSpPr>
        <p:spPr>
          <a:xfrm>
            <a:off x="779040" y="531360"/>
            <a:ext cx="7583400" cy="6326280"/>
          </a:xfrm>
          <a:prstGeom prst="rect">
            <a:avLst/>
          </a:prstGeom>
          <a:noFill/>
          <a:ln w="0">
            <a:noFill/>
          </a:ln>
        </p:spPr>
        <p:txBody>
          <a:bodyPr anchor="t">
            <a:normAutofit/>
          </a:bodyPr>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1. The city needs neighborhood police officers back on the job because city needs more police officers to stop crim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2. Oakland’s city like to copy from Chicago that made ceasefire model because it provide youth with alternatives to gang behavior and increase awareness about dangers of youth violenc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3. Most men are hard-core gang members it means they are not scared of polices and easy to beat small groups.</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4. They hope that gang to listen officer says that we care about you and care about your community.</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5. Contreras hopes that Ceasefire will bring new focus to solve also its escalating gang murder count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llaboration</a:t>
            </a:r>
            <a:endParaRPr b="0" lang="en-US" sz="3800" spc="-1" strike="noStrike">
              <a:solidFill>
                <a:srgbClr val="ffffff"/>
              </a:solidFill>
              <a:latin typeface="Trebuchet MS"/>
            </a:endParaRPr>
          </a:p>
        </p:txBody>
      </p:sp>
      <p:sp>
        <p:nvSpPr>
          <p:cNvPr id="751" name=""/>
          <p:cNvSpPr txBox="1"/>
          <p:nvPr/>
        </p:nvSpPr>
        <p:spPr>
          <a:xfrm>
            <a:off x="295200" y="1828800"/>
            <a:ext cx="8506080" cy="4208400"/>
          </a:xfrm>
          <a:prstGeom prst="rect">
            <a:avLst/>
          </a:prstGeom>
          <a:noFill/>
          <a:ln w="0">
            <a:noFill/>
          </a:ln>
        </p:spPr>
        <p:txBody>
          <a:bodyPr anchor="t">
            <a:normAutofit fontScale="99000"/>
          </a:bodyPr>
          <a:p>
            <a:pPr marL="460440" indent="279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lice officers want to keep reducing crime instances. People are more likely to be at risk of criminal involvement if these officers didn’t work on reducing crime. </a:t>
            </a:r>
            <a:endParaRPr b="0" lang="en-US" sz="2200" spc="-1" strike="noStrike">
              <a:solidFill>
                <a:srgbClr val="ffffff"/>
              </a:solidFill>
              <a:latin typeface="Trebuchet MS"/>
            </a:endParaRPr>
          </a:p>
          <a:p>
            <a:pPr marL="460440" indent="279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easefire has proven to be a more effective crime-reducing program than other programs. </a:t>
            </a:r>
            <a:endParaRPr b="0" lang="en-US" sz="2200" spc="-1" strike="noStrike">
              <a:solidFill>
                <a:srgbClr val="ffffff"/>
              </a:solidFill>
              <a:latin typeface="Trebuchet MS"/>
            </a:endParaRPr>
          </a:p>
          <a:p>
            <a:pPr marL="460440" indent="279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expert says that they understand that police officer efforts to catch criminals, but they are not easy to catch. </a:t>
            </a:r>
            <a:endParaRPr b="0" lang="en-US" sz="2200" spc="-1" strike="noStrike">
              <a:solidFill>
                <a:srgbClr val="ffffff"/>
              </a:solidFill>
              <a:latin typeface="Trebuchet MS"/>
            </a:endParaRPr>
          </a:p>
          <a:p>
            <a:pPr marL="460440" indent="279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expert says that he is happy when they set Hot Spots, a technology that made catching criminals faster than call 911.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191880"/>
            <a:ext cx="758340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a:t>
            </a:r>
            <a:endParaRPr b="0" lang="en-US" sz="3800" spc="-1" strike="noStrike">
              <a:solidFill>
                <a:srgbClr val="ffffff"/>
              </a:solidFill>
              <a:latin typeface="Trebuchet MS"/>
            </a:endParaRPr>
          </a:p>
        </p:txBody>
      </p:sp>
      <p:sp>
        <p:nvSpPr>
          <p:cNvPr id="753" name=""/>
          <p:cNvSpPr txBox="1"/>
          <p:nvPr/>
        </p:nvSpPr>
        <p:spPr>
          <a:xfrm>
            <a:off x="206280" y="1222200"/>
            <a:ext cx="8756640" cy="54388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is very good for stopping crime, because ShotSpotter set up technology to find crimes easily and to catch sounds of gunfire that can hear easil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 Cincinnati, They would get ShotSpotter because I think ShotSpotter can make our community better than before ever. They can make our community better and want people “to feel free and feel that no crime her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264600" y="295200"/>
            <a:ext cx="8580600" cy="627696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e have had arrests as a result of the ShotSpotter system, recoveries of weapons and have had some instances where we were able to get medical attention to victims before a 911 call had been received by NCPD Communications Bureau from Nassau County that ShotSpotter help to reduce crime and Cincinnati use these program too.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gislator Cooper's bill gives the Suffolk County Police Department 60 days to study the feasibility of implementing ShotSpotter and to determine which communities would most benefit from this proprietary acoustic surveillance technology system.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3:33:01Z</dcterms:created>
  <dc:creator>admin</dc:creator>
  <dc:description/>
  <dc:language>en-US</dc:language>
  <cp:lastModifiedBy>admin</cp:lastModifiedBy>
  <dcterms:modified xsi:type="dcterms:W3CDTF">2011-10-10T14:17:15Z</dcterms:modified>
  <cp:revision>3</cp:revision>
  <dc:subject/>
  <dc:title>Crime Investigation</dc:title>
</cp:coreProperties>
</file>